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2EEF-83BB-4DC1-96BC-A32CED989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gram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D 740 Study Team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32CB-1E48-4796-B8EC-5E7354B4F7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ssessing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9A23-66B7-4DD7-966D-26AC31CC57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Assessing Implem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rocess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Impact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st – Benefit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BD2E-EFD2-46C7-86F5-200A49D9BE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Process Evalu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escribes the functions of the program: who received services, what were the services, what were the environmental factors of the program and when were the service delive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F5BF-CB72-4515-BA64-2B78A4E572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xamples of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emographic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umber of persons served in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escription of intake and assessment process, number of interviews or interactions, description of number of training activities, specific curriculum deli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ime and length of specific intervention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ntext in which activities were deliver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xamination of how long services were deli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escriptors of who delivered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A005-3C9B-456B-B3EF-D9FFC7F8D1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Impact Evalu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ttempts to answer the question of what behaviors, attitudes, community change or other hypothesized expected improvement occurred as a result of the program’s activit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8BEF-F0F2-49BD-AE5D-716FCA531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Cost  - 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n assessment of different alternatives in order to see whether the benefits outweigh the cos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 monetary value or other measurement unit is placed on both tangible and intangible factors related to implementation of a specific ac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st-benefit analysis attempts to assess if the program’s benefits exceed the program’s implementation co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C5F0-C1B1-4696-99B0-E874C9BD0F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$8,000 cost for installation of energy efficient windows by homeow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$1,200 reb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= $6,800 cost paid by ow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$1,000 annual electric bill before installation of 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$6,800/$200 = 34 years before return on inves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B291-50F5-41A9-8671-2889F2C5E8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Shoestring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CDF6-8B0B-4DA8-932B-BCB9F1738A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alibri"/>
              </a:rPr>
              <a:t>The Shoestring Approa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rogram evaluators conduct impact evaluations when working under budget, time, or data constra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9B33-61FA-4E01-807D-1019259E28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Shoestring Appro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evaluator is not called in until the project is already well adva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ight deadline for completing the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mbined with a limited budget and without access to baselin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udget, political, or methodological reasons it is not possible to collect baseline data on a contro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ealing with constraints related to costs, time and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8843-91FD-40D1-ACCA-FA82AEDB50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rogram Evalu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 systematic method for collecting analyzing, and using information to answer questions about projects, policies and programs, particularly about their effectiveness and efficiency.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DDD5-78D6-461B-9D33-EB48DBAEA6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The Shoestring Approach co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Identifying the strengths and weaknesses of the evaluation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aking measures to address the threats and strengthen the evaluation design and 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hen necessary, many of these corrective measures can be introduced at a very late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approach was designed to assist evaluators working in developing countries, the principles are equally applicable in industrial 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DE8A-FBB8-4833-8165-D43943433C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etermining Cau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3077-B176-4590-A9C4-A93E158D4B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Cau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irect causation is very diffic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ithout randomly assigned test and control groups, providing causation is im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nclusively showing that an intervention has created a data point requires longitudinal stu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3D7C-24ED-45F5-8802-EDDA2E0841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Cau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Multiple resources interact in a setting which may or may not impact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Self-selection in programs being evaluated contributes to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nother consideration must be unintended results – both positive and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6988-806C-4470-9D16-09C9B4C603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eliability, Validity and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41AD-2EB0-4350-AD45-46390E5F5C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eliability, Validity and Sensitiv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redible evaluations rely on the use of reliable, valid and sensitive instru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D6C3-4931-4CCB-B80E-2913766BA0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eliability is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“extent to which the measure produces the same results when used repeatedly to measure the same thing” (Rossi et al., 2004, p. 21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36B0-1FD0-4DB8-B3A7-A466D0574E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Validity is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“extent to which it measures what it is intended to measure” (Rossi et al., 2004, p. 21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FBC4-75F4-4F1D-ACB4-0F34DC4050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Sensitiv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instrument must be able to discern potential changes on the social probl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instrument is insensitive if it contains items measuring outcomes which the program couldn’t possibly effect (Rossi et al., 2004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11EF-4402-4570-BACD-0D4840431B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9071-9B90-4753-AE62-BE42F247DC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ing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ing program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ing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termining cau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liability, Validity and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Shoesting Appro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thodologic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18DB-1376-442F-BA7E-BF7BDDA97E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e challenges of program evaluation vary from organization to organization, region to region, and country to coun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34DA-9CAE-4068-AEBC-BB39FDEEA0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Cost: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an be expen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Expertise: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equire a high level of expertise to verify the goals of the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Measurement: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must ensure the performance measures will answer the questions that will determine the effectiveness of the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Time: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an be time consuming and could divert staff from day-to-day functi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CD11-8812-426D-A352-C70E670D2D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hallenges when conducting program evaluations in developing countr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ulture can influence many facets of the evaluation process, including data collection, evaluation of the program implementation, and the analysis and understanding of the results of the evaluation” (Ebbutt, 199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B75D-F96E-444B-82BF-AD9F342A5C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hallenges when conducting program evaluations in developing countr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Language can be a major barrier to communicating concepts which the evaluator is trying to access, and translation is often required” (Ebbutt, 199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57D1-4C14-4853-A8DD-F33A56385A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eds Assess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rogram Theory 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9BEC-953C-4AD7-9791-EC88F86CAA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Needs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xamines the target population to determine if the need specified in the program is in fact a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If so, how the problem might best be dealt wi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53B1-F483-4F1B-803D-B57954F01B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eeds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Include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1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dentifying and diagnosing the actual problem the program is trying to addr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1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o or what is affected by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1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ow widespread is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1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at are the measurable effects that are caused by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D052-047E-4622-AA90-8D8A4937AE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xampl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ousing program aimed at mitigating homeless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4A64-372E-47CD-BB13-299DD5520D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gram Theory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n assumption, implicit in the way the program is designed, about how the program’s action are supposed to achieve the outcomes it int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ssesses whether the logic is plau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Important to review existing research that has been done it the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E4D6-5331-454C-9C75-69AA7836FE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Exampl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HIV Prevention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D1CF-C4F0-4596-B93E-394066CBCA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430-9EFA-40A7-924C-94FA3095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314-B3FD-4323-8FC3-433F35CF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E81-4B06-4335-BF83-173BB7AE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152-3753-46B2-ABB9-B1603332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3D4E-30C2-4FF4-A45D-0840E84D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4935-2355-4A53-9D18-C93D602D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26B1-53B0-4500-8C65-78FAC3FC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72AC-100F-459C-B925-7267251E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728A-9DF2-470F-9C1A-81F1E132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F841-99AB-464B-8E3F-65D1E523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D891-2261-44DF-A81B-63785157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8ED-66E3-40D5-9173-B4B1856C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2804-F758-4345-A1F2-284D2E75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DAC7-6407-4B5B-9D90-7F433030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B817-21C2-42FB-8E9F-CD17EE63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79C8-701B-401C-800B-8F45FE75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41D5-14A2-49A8-8C57-D3882C01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E83-4C91-4C56-9CEC-6B64CFC0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6BF-C519-4AB3-ACF3-3DF807A8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384-4E0C-458D-BFF3-7A8F01B4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ED7-07BE-40BE-852B-DB2C75D7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FA6-903D-46E1-8566-7B531E83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165-EEC6-4606-B78B-F33C3B22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523-B29C-4E0E-8772-D2E01B67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04E1-577C-4AE5-B100-61ECC5F02B2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26D0-BE99-4079-AE60-B20E6CDD0C3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Pj04037270000[1]"/>
          <p:cNvPicPr/>
          <p:nvPr/>
        </p:nvPicPr>
        <p:blipFill>
          <a:blip r:embed="rId1"/>
          <a:stretch/>
        </p:blipFill>
        <p:spPr>
          <a:xfrm>
            <a:off x="0" y="0"/>
            <a:ext cx="9263160" cy="7162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143000" y="3657600"/>
            <a:ext cx="70866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gram Evalu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 740 Study Team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exam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990720" y="167652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ssessing Implementa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b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exam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105520" y="0"/>
            <a:ext cx="4038480" cy="55735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ing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– Benefit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exam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105520" y="0"/>
            <a:ext cx="4038480" cy="6552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cess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s the functions of the program: who received services, what were the services, what were the environmental factors of the program and when were the service deliver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ww.vinodkothari.com/soft%20skills.jpg"/>
          <p:cNvPicPr/>
          <p:nvPr/>
        </p:nvPicPr>
        <p:blipFill>
          <a:blip r:embed="rId1"/>
          <a:stretch/>
        </p:blipFill>
        <p:spPr>
          <a:xfrm>
            <a:off x="-685800" y="0"/>
            <a:ext cx="38289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124080" y="0"/>
            <a:ext cx="6019920" cy="1922760"/>
          </a:xfrm>
          <a:prstGeom prst="rect">
            <a:avLst/>
          </a:prstGeom>
          <a:solidFill>
            <a:srgbClr val="e0e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amples of Data Colle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124080" y="1828800"/>
            <a:ext cx="6019920" cy="5169240"/>
          </a:xfrm>
          <a:prstGeom prst="rect">
            <a:avLst/>
          </a:prstGeom>
          <a:solidFill>
            <a:srgbClr val="e0e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graphic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persons served in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intake and assessment process, number of interviews or interactions, description of number of training activities, specific curriculum deliv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and length of specific intervention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xt in which activities were delive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ination of how long services were deliv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ors of who delivere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exam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105520" y="0"/>
            <a:ext cx="4038480" cy="60325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act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s to answer the question of what behaviors, attitudes, community change or other hypothesized expected improvement occurred as a result of the program’s activit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exam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495680" y="0"/>
            <a:ext cx="4648320" cy="682668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st  - Benefi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ssessment of different alternatives in order to see whether the benefits outweigh the co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onetary value or other measurement unit is placed on both tangible and intangible factors related to implementation of a specific activit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-benefit analysis attempts to assess if the program’s benefits exceed the program’s implementation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://www.vinodkothari.com/soft%20skills.jpg"/>
          <p:cNvPicPr/>
          <p:nvPr/>
        </p:nvPicPr>
        <p:blipFill>
          <a:blip r:embed="rId1"/>
          <a:stretch/>
        </p:blipFill>
        <p:spPr>
          <a:xfrm>
            <a:off x="-685800" y="0"/>
            <a:ext cx="382896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3124080" y="0"/>
            <a:ext cx="6019920" cy="1008360"/>
          </a:xfrm>
          <a:prstGeom prst="rect">
            <a:avLst/>
          </a:prstGeom>
          <a:solidFill>
            <a:srgbClr val="e0e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124080" y="990720"/>
            <a:ext cx="6019920" cy="6135480"/>
          </a:xfrm>
          <a:prstGeom prst="rect">
            <a:avLst/>
          </a:prstGeom>
          <a:solidFill>
            <a:srgbClr val="e0e7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8,000 cost for installation of energy efficient windows by home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$1,200 reb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6,800 cost paid by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,000 annual electric bill before installation of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6,800/$200 = 34 years before return on inves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ttp://4.bp.blogspot.com/_g5N-PvvF34c/THkZ56cC1oI/AAAAAAADR4I/AFVlpTwrbsk/s1600/Shoe-Lace-Shoe-String_13973-480x360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 rot="21146400">
            <a:off x="3075840" y="2733480"/>
            <a:ext cx="586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e Shoestring Approach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http://4.bp.blogspot.com/_g5N-PvvF34c/THkZ56cC1oI/AAAAAAADR4I/AFVlpTwrbsk/s1600/Shoe-Lace-Shoe-String_13973-480x360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800600" y="0"/>
            <a:ext cx="4343400" cy="6630480"/>
          </a:xfrm>
          <a:prstGeom prst="rect">
            <a:avLst/>
          </a:prstGeom>
          <a:solidFill>
            <a:srgbClr val="e1ef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Shoestring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evaluators conduct impact evaluations when working under budget, time, or data constr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http://4.bp.blogspot.com/_g5N-PvvF34c/THkZ56cC1oI/AAAAAAADR4I/AFVlpTwrbsk/s1600/Shoe-Lace-Shoe-String_13973-480x360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4800600" y="0"/>
            <a:ext cx="4343400" cy="6595200"/>
          </a:xfrm>
          <a:prstGeom prst="rect">
            <a:avLst/>
          </a:prstGeom>
          <a:solidFill>
            <a:srgbClr val="e1ef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Shoestring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valuator is not called in until the project is already well 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ght deadline for completing the 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with a limited budget and without access to baselin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, political, or methodological reasons it is not possible to collect baseline data on a control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aling with constraints related to costs, time an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5f40b6b3-c3f6-4e80-a55c-7b4767e1b318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5029200" y="0"/>
            <a:ext cx="4114800" cy="6645600"/>
          </a:xfrm>
          <a:prstGeom prst="rect">
            <a:avLst/>
          </a:prstGeom>
          <a:solidFill>
            <a:srgbClr val="3e8ea9"/>
          </a:solidFill>
          <a:ln w="9360">
            <a:solidFill>
              <a:srgbClr val="dfd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gram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ystematic method for collecting analyzing, and using information to answer questions about projects, policies and programs, particularly about their effectiveness and efficiency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http://4.bp.blogspot.com/_g5N-PvvF34c/THkZ56cC1oI/AAAAAAADR4I/AFVlpTwrbsk/s1600/Shoe-Lace-Shoe-String_13973-480x360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4800600" y="0"/>
            <a:ext cx="4343400" cy="6741360"/>
          </a:xfrm>
          <a:prstGeom prst="rect">
            <a:avLst/>
          </a:prstGeom>
          <a:solidFill>
            <a:srgbClr val="e1ef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Shoestring Approach co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ing the strengths and weaknesses of the evaluation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measures to address the threats and strengthen the evaluation design and concl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necessary, many of these corrective measures can be introduced at a very late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pproach was designed to assist evaluators working in developing countries, the principles are equally applicable in industrial n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acfrontier\Local Settings\Temporary Internet Files\Content.IE5\5AQC9IX0\MPj04015860000[1].jpg"/>
          <p:cNvPicPr/>
          <p:nvPr/>
        </p:nvPicPr>
        <p:blipFill>
          <a:blip r:embed="rId1"/>
          <a:stretch/>
        </p:blipFill>
        <p:spPr>
          <a:xfrm>
            <a:off x="-152280" y="0"/>
            <a:ext cx="10863000" cy="72388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 rot="21091200">
            <a:off x="1800360" y="42397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Determining Causa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acfrontier\Local Settings\Temporary Internet Files\Content.IE5\5AQC9IX0\MPj04015860000[1]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800600" y="0"/>
            <a:ext cx="4343400" cy="7298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u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 causation is very diffic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out randomly assigned test and control groups, providing causation is im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vely showing that an intervention has created a data point requires longitudinal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 rot="20800800">
            <a:off x="790560" y="456876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icken or the Eg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acfrontier\Local Settings\Temporary Internet Files\Content.IE5\5AQC9IX0\MPj04015860000[1]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4800600" y="0"/>
            <a:ext cx="4343400" cy="6676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u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resources interact in a setting which may or may not impact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selection in programs being evaluated contributes to the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consideration must be unintended results – both positive and neg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 rot="20800800">
            <a:off x="790560" y="456876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icken or the Eg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2.tfk-racoms.com/racoms/_picture/content/reliabil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0" y="0"/>
            <a:ext cx="5638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eliability, Validity and Sensitivit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www2.tfk-racoms.com/racoms/_picture/content/reliability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4572000" y="0"/>
            <a:ext cx="4572000" cy="6760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iability, Validity and Sensi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ble evaluations rely on the use of reliable, valid and sensitive instru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www2.tfk-racoms.com/racoms/_picture/content/reliability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4572000" y="0"/>
            <a:ext cx="4572000" cy="68187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iability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extent to which the measure produces the same results when used repeatedly to measure the same thing” (Rossi et al., 2004, p. 218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www2.tfk-racoms.com/racoms/_picture/content/reliability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572000" y="0"/>
            <a:ext cx="4572000" cy="6730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lidity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extent to which it measures what it is intended to measure” (Rossi et al., 2004, p. 21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www2.tfk-racoms.com/racoms/_picture/content/reliability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4572000" y="0"/>
            <a:ext cx="4572000" cy="67161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nsi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strument must be able to discern potential changes on the social probl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strument is insensitive if it contains items measuring outcomes which the program couldn’t possibly effect (Rossi et al., 2004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http://www.dailychallenge.org/blog/wp-content/uploads/2008/12/mountain-climbing1-300x2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3124080" y="28195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balance"/>
          <p:cNvPicPr/>
          <p:nvPr/>
        </p:nvPicPr>
        <p:blipFill>
          <a:blip r:embed="rId1"/>
          <a:stretch/>
        </p:blipFill>
        <p:spPr>
          <a:xfrm>
            <a:off x="5943600" y="0"/>
            <a:ext cx="33526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0" y="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Building Block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523880"/>
            <a:ext cx="48769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ing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ing program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ing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ing cau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iability, Validity and Sensi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hoestring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hodologic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www.dailychallenge.org/blog/wp-content/uploads/2008/12/mountain-climbing1-300x287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4800600" y="0"/>
            <a:ext cx="4343400" cy="7138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allenges of program evaluation vary from organization to organization, region to region, and country to count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http://www.dailychallenge.org/blog/wp-content/uploads/2008/12/mountain-climbing1-300x287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4800600" y="0"/>
            <a:ext cx="4343400" cy="6718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s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rtis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 a high level of expertise to verify the goals of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asuremen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ensure the performance measures will answer the questions that will determine the effectiveness of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time consuming and could divert staff from day-to-day func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dailychallenge.org/blog/wp-content/uploads/2008/12/mountain-climbing1-300x287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800600" y="0"/>
            <a:ext cx="4343400" cy="652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when conducting program evaluations in developing countr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can influence many facets of the evaluation process, including data collection, evaluation of the program implementation, and the analysis and understanding of the results of the evaluation” (Ebbutt, 1998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www.dailychallenge.org/blog/wp-content/uploads/2008/12/mountain-climbing1-300x287.jpg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4800600" y="0"/>
            <a:ext cx="4343400" cy="6531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when conducting program evaluations in developing countr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can be a major barrier to communicating concepts which the evaluator is trying to access, and translation is often required” (Ebbutt, 1998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sw_testin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0" y="-15228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eds Assessmen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gram Theory Assessm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sw_testing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5562720" y="9907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952880" y="0"/>
            <a:ext cx="3962520" cy="75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ines the target population to determine if the need specified in the program is in fact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o, how the problem might best be dealt wi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w_testing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5562720" y="9907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0"/>
            <a:ext cx="4800600" cy="6226200"/>
          </a:xfrm>
          <a:prstGeom prst="rect">
            <a:avLst/>
          </a:prstGeom>
          <a:solidFill>
            <a:srgbClr val="cac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ing and diagnosing the actual problem the program is trying to addr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o or what is affected by the proble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widespread is the proble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are the measurable effects that are caused by the proble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www.vinodkothari.com/soft%20skill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124080" y="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Example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0" y="5668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using program aimed at mitigating homelessn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w_testing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952880" y="0"/>
            <a:ext cx="4191120" cy="6903360"/>
          </a:xfrm>
          <a:prstGeom prst="rect">
            <a:avLst/>
          </a:prstGeom>
          <a:solidFill>
            <a:srgbClr val="cac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Theory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 assumption, implicit in the way the program is designed, about how the program’s action are supposed to achieve the outcomes it intend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esses whether the logic is plau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ortant to review existing research that has been done it the are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vinodkothari.com/soft%20skills.jpg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86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124080" y="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Example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0" y="5668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V Prevention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2:38:25Z</dcterms:created>
  <dc:creator>KM</dc:creator>
  <dc:description/>
  <dc:language>en-US</dc:language>
  <cp:lastModifiedBy>user</cp:lastModifiedBy>
  <dcterms:modified xsi:type="dcterms:W3CDTF">2010-11-13T13:51:07Z</dcterms:modified>
  <cp:revision>34</cp:revision>
  <dc:subject/>
  <dc:title>Slide 1</dc:title>
</cp:coreProperties>
</file>